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178F-9D96-43CB-9D37-EA9A66BB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B02F-41EC-4C23-903D-7086BB68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D07F-BD9D-4762-BFB0-3E69E045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80D9-6CFE-4CEE-9609-10D9D6DC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6B35-0E02-4BCF-BD37-4788FE90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C17-E94A-48C6-9B87-BD140EA9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BB4D-417B-463F-B4F9-CD2E202F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F897-5E22-41C6-97F9-230E4A6E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725-FD4E-43F7-8C59-C785BB4C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2D6-9EBB-4864-861D-578BE1EF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2C4-E0A8-427D-838F-8E863C5B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7A18-B2E7-4854-B94F-3772242F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E101-44BE-4558-865F-1F32E5E1D14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sfcr.cz/file/8258/" TargetMode="External"/><Relationship Id="rId2" Type="http://schemas.openxmlformats.org/officeDocument/2006/relationships/hyperlink" Target="https://forum.esfcr.cz/node/discussion.htm?ident=114&amp;1285767538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403280" y="2276640"/>
            <a:ext cx="70484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c00000"/>
                </a:solidFill>
                <a:latin typeface="Arial"/>
              </a:rPr>
              <a:t>Jak správně n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br>
              <a:rPr sz="28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95280" y="1484280"/>
            <a:ext cx="84978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Např. pokud je metodika pro lektora nepoužitelná bez osnovy kurzu a příslušné učebnice, nelze za produkt považovat metodiku, nýbrž kurz jako celek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57.00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nových/inovovaných produkt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68280" y="1844640"/>
            <a:ext cx="849636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apočítávají s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uze produkty vzniklé v rámci hlavních klíčových aktivit projekt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ikoliv např. propagační předměty!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í nového/inovovaného produktu nutně znamená, že při tvorbě produktu vzniká nějaké nové duševní vlastnict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Počet úspěšných absolventů kurzů celkem/</a:t>
            </a:r>
            <a:br>
              <a:rPr sz="2800"/>
            </a:br>
            <a:r>
              <a:rPr b="1" lang="cs-CZ" sz="2800" spc="-1" strike="noStrike">
                <a:solidFill>
                  <a:srgbClr val="143f7e"/>
                </a:solidFill>
                <a:latin typeface="Arial"/>
              </a:rPr>
              <a:t> 48.19.00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Počet proškolených os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395280" y="2066760"/>
            <a:ext cx="849780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22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bdélník 1"/>
          <p:cNvSpPr/>
          <p:nvPr/>
        </p:nvSpPr>
        <p:spPr>
          <a:xfrm>
            <a:off x="539640" y="1628640"/>
            <a:ext cx="7993080" cy="43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6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pro 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znevýhodněné skupiny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... na pracovní místo musí nastoupit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osoba ze znevýhodněné skupiny, která je v projektu chápána jako cílová skupin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místo vytvořené pro</a:t>
            </a:r>
            <a:r>
              <a:rPr b="1" lang="cs-CZ" sz="2100" spc="-1" strike="noStrike">
                <a:solidFill>
                  <a:srgbClr val="14407e"/>
                </a:solidFill>
                <a:latin typeface="Arial"/>
              </a:rPr>
              <a:t> ženy </a:t>
            </a: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se považuje takové pracovní místo, na které </a:t>
            </a:r>
            <a:r>
              <a:rPr b="0" lang="cs-CZ" sz="2100" spc="-1" strike="noStrike" u="sng">
                <a:solidFill>
                  <a:srgbClr val="14407e"/>
                </a:solidFill>
                <a:uFillTx/>
                <a:latin typeface="Arial"/>
              </a:rPr>
              <a:t>jako první zaměstnankyně nastoupila žen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Za vytvořená pracovní místa se nepovažují místa, která vzniknou v rámci realizačního týmu projektu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07e"/>
                </a:solidFill>
                <a:latin typeface="Arial"/>
              </a:rPr>
              <a:t>Nostitelem nově vytvořených pracovních míst může být příjemce podpory, jeho projektový partner nebo jiný zaměstnavate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7640" y="162828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nově vytvořených pracovních míst vykazujete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epočtený na „plné úvazky“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vytvoříte-li tři poloviční úvazky, bude hodnota indikátoru 1,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Vytvořenými pracovními místy jsou místa vytvořená v rámci projektu v souladu se stanovenými pravid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podpořené formou úhrady mzdových náklad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pro sebezaměstnání (OSVČ) podpořené prostřednictvím vzdělávání a podpůrných služe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ové pracovní místo u zaměstnavatele vytvořené v souvislosti s projektem, za předpokladu, že toto místo není financováno z jiných veřejných zdro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07.02.00 (07.02.02)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nově vytvořených pracovních míst </a:t>
            </a:r>
            <a:br>
              <a:rPr sz="2400"/>
            </a:b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ro znevýhodněné skupin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– celkem (že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62864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Počet vytvořených pracovních míst musí představovat 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čisté přírůstky pracovních míst v organizaci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 oproti průměru za posledních 12 měsíc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přirozenou fluktuaci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ohu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ykázat jako vytvořená mís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ožadavek podle předchozí věty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nemusí být splněn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v případě poskytování mzdových příspěvk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nevýhodněným nebo zdravotně postiženým zaměstnancům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 případě, kdy k čistému nárůstu nedojde výhradně kvůli tomu, že dotyčné pracovní místo muselo být uprázdněno z důvodu dobrovolného odchodu, tělesného postižení, odchodu do důchodu z důvodu věku, dobrovolného zkrácení pracovní doby nebo dovoleného propuštění pro porušení pracovních povinnost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143f7e"/>
                </a:solidFill>
                <a:latin typeface="Arial"/>
              </a:rPr>
              <a:t>43.05.00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vytvořených partnerstv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binární indikátor „hloubky“ partnerství ( sleduje vytvořená místní partnerství, tématické sítě, mezinárodní partner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dosažená hodnota může být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uze 0 neb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1 – v rámci projektu byl na základě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mezinárodní spolupráce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vytvořen</a:t>
            </a:r>
            <a:r>
              <a:rPr b="0" lang="cs-CZ" sz="24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1" lang="cs-CZ" sz="2400" spc="-1" strike="noStrike" u="sng">
                <a:solidFill>
                  <a:srgbClr val="14407e"/>
                </a:solidFill>
                <a:uFillTx/>
                <a:latin typeface="Arial"/>
              </a:rPr>
              <a:t>společný produ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0 – ve všech ostatních případ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nedosáhnu cílové hodno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5280" y="16588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Konkrétní způsob vyčíslení sankce je v Metodice monitorovacích indikátorů (kapitola 4), obecně plat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tup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8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 sankce za nenaplnění indikátorů </a:t>
            </a: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výsledků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vzhledem k údajům uvedeným v Žádosti je udělována, pokud je indikátor naplněn na méně než 7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24000" y="1413000"/>
            <a:ext cx="85168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maximálně ve výši 120%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ůvodně plánované hodno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1" i="1" lang="cs-CZ" sz="2200" spc="-1" strike="noStrike">
                <a:solidFill>
                  <a:srgbClr val="000000"/>
                </a:solidFill>
                <a:latin typeface="Arial"/>
              </a:rPr>
              <a:t>Několikanásobné překroče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ílových hodnot není výhodou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3645000"/>
          <a:ext cx="8569080" cy="22478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22492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říklad z metodiky D8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případě, že projekt předpokládá splnění tří indikátorů výstupů, kdy bude dosažená hodnota prvn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 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, druhé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% a třetího </a:t>
                      </a: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</a:t>
                      </a: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ůvodního plánu, vypočítá se průměr z těchto hodnot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 %, 10 %, 35 %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ůměr dosažených hodnot indikátorů činí 55 %, čemuž odpovídá sankce ve výši 18 - 22 % z hodnoty dotac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55640" y="1197000"/>
            <a:ext cx="743760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sledovat a vykazovat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i v tomto </a:t>
            </a:r>
            <a:r>
              <a:rPr b="1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detailním členění</a:t>
            </a:r>
            <a:r>
              <a:rPr b="1" i="1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např. podle pohlaví, podle postavení na trhu práce apod.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0" i="1" lang="cs-CZ" sz="22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95280" y="1125360"/>
            <a:ext cx="864252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95280" y="1658880"/>
            <a:ext cx="82296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ílčí členění se týká indikátor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sob (velmi složité členě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odpořených organizací (členění podle typu organiz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úspěšných absolventů kurzů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čet proškolených osob (členění podle pohla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Všechny tyto indikátory jsou včetně definic uvedeny v kapitole 6 Metodiky monitorovacích indikátorů (D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68360" y="1658880"/>
            <a:ext cx="7920000" cy="45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Tento indikátor se dále člení po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hlav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postavení na trhu práce, (OSVČ, nezaměstna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role (klienti služeb = znevýhodněné skupiny, poskytovatelé služeb = ti, kteří se znevýhodněnými pracují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ě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typu znevýhodnění (menšiny, zdravotně postižení…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zdělá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úspěšnosti podpory (úspěšně podpořené osob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Reportujte vždy o skupinách, které jsou cílovými skupinami Vašeho projekt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ílčí členění indikátoru </a:t>
            </a:r>
            <a:br>
              <a:rPr sz="32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07.41.00 – Počet podpořených os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95280" y="1658880"/>
            <a:ext cx="8229600" cy="49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V rámci podmnožin základních indikátorů mohou nastat situace, kdy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jednu skutečnost je nutné uvést v podrobném členění do více indikátor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apř. dlouhodobě nezaměstnaný zdravotně postižený muž z etnické menšiny ve věku 56 let s dokončenou střední školou je zahrnut v indikátore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0 (podpořená osoba)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1 (muž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7 (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06 (dlouhodobě nezaměstnaný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19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tarší pracovník 55-64 l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42 (střední škola – ISCED 3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5 (menšina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74127 (zdravotně postižený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 – 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81080" y="1658880"/>
            <a:ext cx="8783640" cy="48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D8 – Metodika monitorovacích indikát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ESF Forum – Diskusní klub „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Monitorování a informační systémy; indikátory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3.4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39640" y="1773360"/>
          <a:ext cx="8229600" cy="380988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 indent="-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 míst pro znevýhodněné skupiny - celk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0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nově zařaze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t">
                      <a:noAutofit/>
                    </a:bodyPr>
                    <a:p>
                      <a:pPr marL="856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ě vytvořených pracovních míst pro znevýhodněné skupiny - že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7640" marR="176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U oblasti podpory 5.1 jde 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26859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vytvořených partners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.19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roškolených os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95280" y="1658880"/>
            <a:ext cx="82296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Každá osoba je v </a:t>
            </a: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rámci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projektu započítávána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, bez ohledu na to, kolik podpor obdrže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Účastník tří školení a půlroční stáže tedy vydá pouze za jednu podpořenou osobu, stejně jako osoba, která jednou využila konzultačních služ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dpora je jakákoliv aktivita financovaná z rozpočtu projektu, ze které mají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cílové skupiny prospěch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a to na úrovni např. vzdělávacího nebo rekvalifikačního kurzu, stáže, odborné konzultace, poradenství, školení, prax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5280" y="177336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utnost identifikace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 podpořenou osobu proto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 nelze považovat anonymní osobu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s neprokazatelným prospěchem,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tj. osobu, která dostala např. leták, bulletin nebo hromadný emai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143f7e"/>
                </a:solidFill>
                <a:latin typeface="Arial"/>
              </a:rPr>
              <a:t>(Co když ho jeden a ten samý člověk dostal třikrát? Co když ho příjemce vůbec nepřečetl? Jak charakterizujete člověka jen podle emailové adresy v povinném dílčím členění indikátoru?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1.00</a:t>
            </a: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179280" y="1628640"/>
            <a:ext cx="8713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ástroje pro prokazování počtu podpořených osob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ezenční listiny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urzů, seminářů a skupinových aktivit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karty klienta či adresář klient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např. u osobních poradenských aktivi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adresář klientů a archivovaná elektronická korespondence nebo výpis telefonních hovorů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(u konzultací po e-mailu nebo telefon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Formu si volí projekt dle své úvahy tak, aby dostál povinnosti mít </a:t>
            </a:r>
            <a:r>
              <a:rPr b="1" lang="cs-CZ" sz="2200" spc="-1" strike="noStrike">
                <a:solidFill>
                  <a:srgbClr val="143f7e"/>
                </a:solidFill>
                <a:latin typeface="Arial"/>
              </a:rPr>
              <a:t>prokazatelný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počet podpořených os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Doporučení: Mějte na prezenčních listinách u podpořených osob kromě jména a příjmení také kontakt a datum naroze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Lze mezi podpořené osoby počítat osoby projektového tým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Členové projektového týmu nejsou podpořené osob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Zařazeni by zde mohli být pouze v případě, kdy by oni sami byli kromě projektového týmu zároveň také cílovou skupin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3f7e"/>
                </a:solidFill>
                <a:latin typeface="Arial"/>
              </a:rPr>
              <a:t>Např. může nastat situace, kdy jedna osoba, např. terénní pracovník, je zároveň členem týmu (pracuje s klienty z cílových skupin) a zároveň je cílovou skupinou (protože projekt mimo jiné organizuje vzdělávací kurz pro terénní pracovník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6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očet podpořených organizací - celk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o tohoto hodnoty tohoto indikátoru se zahrnuje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příjemce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uvedených v Rozhodnutí o poskytnutí do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.: Pokud má žadatel dva české partnery bude hodnota tohoto ukazatele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Eliška</cp:lastModifiedBy>
  <cp:lastPrinted>2012-11-27T07:57:09Z</cp:lastPrinted>
  <dcterms:modified xsi:type="dcterms:W3CDTF">2012-12-07T10:48:37Z</dcterms:modified>
  <cp:revision>43</cp:revision>
  <dc:subject/>
  <dc:title>Snímek 1</dc:title>
</cp:coreProperties>
</file>